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776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3400" y="703080"/>
            <a:ext cx="4691160" cy="35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8910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008240" y="8910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D20E12-8433-45D8-A71C-0391DC941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1160" cy="351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bcam.com/ps/CMS/Images/cancer%20pathways.gif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B94304-D4AF-49CB-A4FA-A4CC93D27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85CE1B-1A2E-420C-8E65-84D61EAEC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1160" cy="351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 is, by far, the most common fatal cancer in men (31%), followed by colon &amp; rectum (10%), and prostate (9%).  In women, lung (26%), breast (15%), and colon &amp; rectum (10%) are the leading sites of cancer dea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19F-B224-4C61-B345-D1183A01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09A-1FD9-455E-A964-C8208CDC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A16-4377-4CBF-AC0C-908B49A9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94F-1C9A-472B-ABD4-F1FEBA0B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944-B8E3-41D2-980E-A9066A24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A4D-E44C-4935-A551-99FD6C8D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821-943B-4534-8350-8862E1A7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E4E-CEB0-4FB4-80FB-68C3A855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369-78F8-4CC6-9D9D-3AF48044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9EA-C07B-4E96-B4DE-7EB4C00A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35E-76E3-41E5-9CEB-FE88ED52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96C-F4B8-4A8C-8527-08DE845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9AC3-C59E-4702-9BB4-A69FE773D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5562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 rot="1432200">
            <a:off x="5257440" y="1523520"/>
            <a:ext cx="35812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 Black"/>
              </a:rPr>
              <a:t>Regulating the Cell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638320" y="53337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logy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0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http://homepage.mac.com/enognog/cell%20cycle.jpg"/>
          <p:cNvPicPr/>
          <p:nvPr/>
        </p:nvPicPr>
        <p:blipFill>
          <a:blip r:embed="rId1"/>
          <a:stretch/>
        </p:blipFill>
        <p:spPr>
          <a:xfrm>
            <a:off x="95400" y="895320"/>
            <a:ext cx="5410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Cycle Reg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Can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n, chem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xercis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esity is linked to sev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s (but not necessarily inheri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ions in genes that regulate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5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ene responsible for halting the cell cycle until all chromosomes have replicated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cts in this gene is a precursor to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ion of Can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2425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ds of Canc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OLID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cinom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iginate from surface cells (skin, wall of intestine, surface of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com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one, cartilage, fat, mus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IQUID”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ukemi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irculate in blood stream, from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ymphom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veloped in lymph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06 Estimated US Cancer Death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291320" y="6429240"/>
            <a:ext cx="286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S=Other nervous syste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rce: American Cancer Society, 200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505320" y="144792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1,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876920" y="1523880"/>
            <a:ext cx="15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3,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5181480" y="2209680"/>
            <a:ext cx="666720" cy="4016520"/>
          </a:xfrm>
          <a:prstGeom prst="pi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3809880" y="2133720"/>
            <a:ext cx="633600" cy="404784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248520" y="1600200"/>
            <a:ext cx="308592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g &amp; bronch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n &amp; rec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uke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Hodgk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lymph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erine corp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yel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n/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%    All other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762120" y="1523880"/>
            <a:ext cx="403848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g &amp; bronch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n &amp; rect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cre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ukem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r &amp; intrahep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e 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ophag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Hodgkin                 3%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ymphoma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inary blad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dn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other sites               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ery – remove the affected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– high-dose X-rays kil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– drugs kil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mone therapy – hormones stop cel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ideo.about.com/cancer/Chemotherapy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ideo.about.com/cancer/Chronic-Myeloid-Leukemia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ideo.about.com/cancer/CyberKnife-Radiosurgery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ideo.on.nytimes.com/index.jsp?fr_story=cde8a179a490d9a9fe977c6df92fb8fe3b88a53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lung cancer and CT sc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e in three people will develop cancer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e in four people will die of cancer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re than 1500 Americans died each day of cancer this year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ver 1,000,000 cases of skin cancer will be diagnosed this year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ncer is the leading cause of death among Americans under the age of 8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anc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294920"/>
            <a:ext cx="8534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order in whi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ome of the body’s cells lose the ability to contro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’s of different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 not respo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internal &amp;/or external sign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ously divide – forming masses of cell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cer cells can break from a tumor and spread throughout the body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tastasi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die from skin canc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5" descr="cancer.gif"/>
          <p:cNvPicPr/>
          <p:nvPr/>
        </p:nvPicPr>
        <p:blipFill>
          <a:blip r:embed="rId1"/>
          <a:stretch/>
        </p:blipFill>
        <p:spPr>
          <a:xfrm>
            <a:off x="609480" y="893880"/>
            <a:ext cx="8077320" cy="58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bio_ch10_6031"/>
          <p:cNvPicPr/>
          <p:nvPr/>
        </p:nvPicPr>
        <p:blipFill>
          <a:blip r:embed="rId1"/>
          <a:stretch/>
        </p:blipFill>
        <p:spPr>
          <a:xfrm>
            <a:off x="528480" y="2313000"/>
            <a:ext cx="7953480" cy="2647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31480"/>
            <a:ext cx="86868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happening in the petri di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tion 1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57200" y="5181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present the healing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rm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ells eventually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auses the cell cycle to continue?  Is it automatic?  Does it ever sto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685800" y="2895480"/>
          <a:ext cx="807732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80773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Cycle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lls do not move through the cell cycle at the sam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120" y="2361960"/>
            <a:ext cx="8077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a developing embryo replicate rapidly- 3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erage time of cell cycle- 20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esophagus- 2-3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small intestine- 1-2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large intestine- 6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-120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 blood cells- 10hrs-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bio_ch10_4502"/>
          <p:cNvPicPr/>
          <p:nvPr/>
        </p:nvPicPr>
        <p:blipFill>
          <a:blip r:embed="rId1"/>
          <a:stretch/>
        </p:blipFill>
        <p:spPr>
          <a:xfrm>
            <a:off x="1050840" y="1900080"/>
            <a:ext cx="6645240" cy="2748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80880" y="327672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mple of cytoplasm is removed from a cell in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0" y="2057400"/>
            <a:ext cx="1817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ple is injected into a second cell in 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inter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394320" y="47862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 second cell enters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30592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hesis: Substance X will cause a cell to start mitosi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ance X = CYCLI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tion 1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80880" y="5181480"/>
            <a:ext cx="849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llular protein that regulates the ti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ell cycle in eukaryotic cell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reate spind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Cycle Reg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 that respond to signals inside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points during interph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all DNA has been properly m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all chromosomes have attached to a spi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 that respond to events outside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up or slow down cell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 to environment and “crowding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bio_ch10_6031"/>
          <p:cNvPicPr/>
          <p:nvPr/>
        </p:nvPicPr>
        <p:blipFill>
          <a:blip r:embed="rId1"/>
          <a:stretch/>
        </p:blipFill>
        <p:spPr>
          <a:xfrm>
            <a:off x="4265640" y="5029200"/>
            <a:ext cx="45212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9:05:18Z</dcterms:created>
  <dc:creator>James P. Lilliendahl</dc:creator>
  <dc:description/>
  <dc:language>en-US</dc:language>
  <cp:lastModifiedBy>Preferred Customer</cp:lastModifiedBy>
  <dcterms:modified xsi:type="dcterms:W3CDTF">2011-03-28T10:11:59Z</dcterms:modified>
  <cp:revision>58</cp:revision>
  <dc:subject/>
  <dc:title>Regulating the Cell Cycle</dc:title>
</cp:coreProperties>
</file>